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E6F-EBDF-4036-A790-05920D14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745-ACE8-4AFB-A68E-D4CE17FD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672-220D-4BCD-8A15-D624E654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A51-AF5F-4B33-A2A2-FCF4D422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76B-E79D-413B-A7AF-6F1E8E1C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FFD3-047B-4383-902C-9C24F6F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DFF8-867B-4C38-BDCA-1526D54A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1550-7432-4401-96DD-49572D35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63A4-6A06-4034-9F34-AF1F671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C62A-A846-4EFD-B8FB-5119C7E3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6AB-17A3-4C49-995A-C1B8586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6A5-1BAF-4DD1-99DB-EDA0186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0581-3EA0-4366-8553-DA99E3F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07A0-E5EF-43E0-BC8F-5156FCE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1E9C-F21B-4C30-82A0-7C7D94D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DBB-1A13-4201-A1F6-3D5CD0EE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E1E-1568-495A-860F-3C5591DF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76C-9111-4F79-94F6-27692FB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980-8F09-44A6-A381-DB4D796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97-04D4-4ED0-AB02-6F4CE7E9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BBA-D87F-4369-8941-B55BBFCF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AA5-E635-49E8-AB26-104D38C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4B5-7BF5-4B3A-8D6C-6F85E429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C55-BE2F-4832-BE3A-F7D1427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075A-2F64-44F7-9965-DE2039E79B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93B-4A61-4736-93C2-32631F3544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images.google.ca/imgres?imgurl=http://www.moonsinger.com/RealityCheck/RealityCheck-ObamaFamilySepia.jpg&amp;imgrefurl=http://www.moonsinger.com/realitycheck.htm&amp;usg=__gWDc_qW92ZGW3vj5BvA6ZVpwksQ=&amp;h=381&amp;w=451&amp;sz=48&amp;hl=en&amp;start=3&amp;um=1&amp;itbs=1&amp;tbnid=TsUbi9dN30tcSM:&amp;tbnh=107&amp;tbnw=127&amp;prev=/images%3Fq%3Dhuman%2Bfamily%26um%3D1%26hl%3Den%26sa%3DN%26gbv%3D2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cializ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nit 2 - 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2590920"/>
            <a:ext cx="5333760" cy="3962160"/>
          </a:xfrm>
          <a:prstGeom prst="wedgeRoundRectCallout">
            <a:avLst>
              <a:gd name="adj1" fmla="val 68750"/>
              <a:gd name="adj2" fmla="val -7893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9200" y="2779560"/>
            <a:ext cx="495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Socialization – group r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aling with formal r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paration for the adult wor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ifest function – visible purpose of scho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o learn academic ski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tent function – hidden purpo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o learn how to underst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cooperate with strang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learn rules about being 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, being neat, when 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lk, respect for author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ts of Socialization – Peer group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2514600"/>
            <a:ext cx="5334120" cy="3581280"/>
          </a:xfrm>
          <a:prstGeom prst="wedgeRoundRectCallout">
            <a:avLst>
              <a:gd name="adj1" fmla="val 67143"/>
              <a:gd name="adj2" fmla="val 4388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5720" y="2703600"/>
            <a:ext cx="50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st influential between ages 10-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cial group where members are the same 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share the same interests and social pos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opportunities to do things not usuall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uraged by one’s fami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er pressure: values and behaviour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xual attitudes, gender ro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Med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2514600"/>
            <a:ext cx="5410440" cy="3886200"/>
          </a:xfrm>
          <a:prstGeom prst="wedgeRoundRectCallout">
            <a:avLst>
              <a:gd name="adj1" fmla="val 65490"/>
              <a:gd name="adj2" fmla="val 1090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640" y="2779560"/>
            <a:ext cx="53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unction:  Commercial – designed to make mone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y obtaining as many customers as possib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ract customers by setting out an unrealisti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ew of life (cop drama: suspense, romance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gedy and justice fits into 52 minut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vertising – attempts to persuade us that w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‘have it all’ Gender roles are created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inforced, whether realistic or n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:  average model 5’9”, 123 l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verage women 5’4”, 144l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3274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Relig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2438280"/>
            <a:ext cx="5334120" cy="3581640"/>
          </a:xfrm>
          <a:prstGeom prst="wedgeRoundRectCallout">
            <a:avLst>
              <a:gd name="adj1" fmla="val 66935"/>
              <a:gd name="adj2" fmla="val 3080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60" y="2855880"/>
            <a:ext cx="526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6 – approx 86% of Canadians indicated tha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y had some sort of religious fai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30% reported weekly attendance a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religious servi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igious activities communicate beliefs abou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der, appropriate sexual conduct, the afterlife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ponsibility for one another in society, valu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morals (usually reinforced by the fami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793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ts of Socialization –Workpl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0080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2438280"/>
            <a:ext cx="5562720" cy="4038840"/>
          </a:xfrm>
          <a:prstGeom prst="wedgeRoundRectCallout">
            <a:avLst>
              <a:gd name="adj1" fmla="val 63500"/>
              <a:gd name="adj2" fmla="val 2165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666880"/>
            <a:ext cx="521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st people take up paid employment at so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ready learned the importance of punctuality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priate dress, respect for authority at scho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learn specialized language, procedur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as they relate to our job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learn how to deal with colleagu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etitors, customers, stud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ambuilding activ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Wilson &amp; Phillips : Workplace Photography"/>
          <p:cNvPicPr/>
          <p:nvPr/>
        </p:nvPicPr>
        <p:blipFill>
          <a:blip r:embed="rId2"/>
          <a:stretch/>
        </p:blipFill>
        <p:spPr>
          <a:xfrm>
            <a:off x="6172200" y="2209680"/>
            <a:ext cx="27082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ts of Socialization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tal Institu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2209680"/>
            <a:ext cx="5257800" cy="4343400"/>
          </a:xfrm>
          <a:prstGeom prst="wedgeRoundRectCallout">
            <a:avLst>
              <a:gd name="adj1" fmla="val 70078"/>
              <a:gd name="adj2" fmla="val 13120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320" y="2286000"/>
            <a:ext cx="4496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nded to wipe out old socialization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lace it with n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ot camp – for young offen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son – convicted fel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tructive religious cul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naster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lita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mphasis on removing individuality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lacing it with a common group ident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identical hair cu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identical clot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strict enforcement of rules abo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ily activities and schedul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72200" y="990720"/>
            <a:ext cx="24922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tal Institutions - Asylu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gradation ceremon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intended to weaken a person’s current identity so that a new one could be put in its place – many have since been abolish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on in all Total Institu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aspects of life are closely supervised by staf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mbers have no choice regarding food or sleeping arrang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al rules about virtually all aspects of daily rou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Name and who you 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7720" y="2361960"/>
            <a:ext cx="71946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name might tell you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Your 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Your ethnicity – Physical character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ossibly your 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ample:  What comes to mind when you hear the nam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Jennifer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7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yourself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g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am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thnicit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hysical characteristic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lik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dislik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bbi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trengths (school, sport, art…)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Interest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valu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ersonal histor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3425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, imagine you were switched at birth with another baby in the maternity ward and went home with the ‘wrong’ family and were raised by th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might you be different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The Nurture Side of Things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ocializatio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lifelong process through which we learn all the knowledge, skills and attitudes we need to survive and prosp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Sociologi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focus on how we learn the basic rules and attitudes of human behaviour (don’t pick your n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Psychologis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focus on the development of the human personality – those characteristics that make each individual unique (self-confiden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nthropologi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focus on the process by which permanent human societies are produced.  (A uniquely human way of life centered on ‘marriage’, ‘family’, and ‘household’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ization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process in the development of the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cessary for the continuation of soci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s virtually every aspect of our l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 1) Hunger patterns (when we ea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)  Perception of the world aroun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us (Arctic peoples have many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s for ‘snow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s of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438280"/>
            <a:ext cx="4496040" cy="40388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276720"/>
            <a:ext cx="3200400" cy="2743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4114800"/>
            <a:ext cx="15238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ma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58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3680" y="38098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ary 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7000" y="28954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ticipatory 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286000"/>
            <a:ext cx="2438640" cy="2158920"/>
          </a:xfrm>
          <a:prstGeom prst="borderCallout1">
            <a:avLst>
              <a:gd name="adj1" fmla="val 35691"/>
              <a:gd name="adj2" fmla="val 22362"/>
              <a:gd name="adj3" fmla="val 1013"/>
              <a:gd name="adj4" fmla="val 2236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475000"/>
            <a:ext cx="243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e lear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w to e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 practice hygie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ender ro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 deal with emo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6554520" y="4230360"/>
            <a:ext cx="2435400" cy="2438640"/>
          </a:xfrm>
          <a:prstGeom prst="borderCallout1">
            <a:avLst>
              <a:gd name="adj1" fmla="val -661"/>
              <a:gd name="adj2" fmla="val 26852"/>
              <a:gd name="adj3" fmla="val -661"/>
              <a:gd name="adj4" fmla="val 999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37240" y="4151160"/>
            <a:ext cx="235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n how to functi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groups (schools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to follow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haviours societ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cts of us whi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ng in group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tu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134760" y="265680"/>
            <a:ext cx="2438280" cy="2516400"/>
          </a:xfrm>
          <a:prstGeom prst="borderCallout1">
            <a:avLst>
              <a:gd name="adj1" fmla="val 26928"/>
              <a:gd name="adj2" fmla="val 22626"/>
              <a:gd name="adj3" fmla="val 1308"/>
              <a:gd name="adj4" fmla="val 22626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760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velop the ability to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nk ahead and ac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or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s of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ization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ocializ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Deliberate attempt by society to replace aspects of an individual’s socialization with new learn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114800" cy="273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83000" y="5257800"/>
            <a:ext cx="72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prisons, society tries to change inmates’ learned behaviour to mo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priate, law-abiding 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ight a person develop if cut off from normal human contact at an early a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eral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Children raised by wild animals (unrealisti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solat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raised in human households but were severely neglected physically, socially and emotion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na 1938.  5 year old found hidden in a second floor storage room tied into a cha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ie 1970: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year old ha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en kept lock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 room wit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y a potty se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0" y="3581280"/>
            <a:ext cx="180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Fami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4038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2514600"/>
            <a:ext cx="5334120" cy="3809880"/>
          </a:xfrm>
          <a:prstGeom prst="wedgeRoundRectCallout">
            <a:avLst>
              <a:gd name="adj1" fmla="val 68750"/>
              <a:gd name="adj2" fmla="val -6208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084480"/>
            <a:ext cx="595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mary Socialization – 1</a:t>
            </a:r>
            <a:r>
              <a:rPr b="1" lang="en-US" sz="1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gent of 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st influential ages 0-6, after 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r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der ro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at are our own special unique qual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tal in the development of the 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socialization we get at home is n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ways corre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438280"/>
            <a:ext cx="167652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25:17Z</dcterms:created>
  <dc:creator>Administrator</dc:creator>
  <dc:description/>
  <dc:language>en-US</dc:language>
  <cp:lastModifiedBy>Customer</cp:lastModifiedBy>
  <dcterms:modified xsi:type="dcterms:W3CDTF">2010-09-24T18:09:36Z</dcterms:modified>
  <cp:revision>8</cp:revision>
  <dc:subject/>
  <dc:title>Socialization</dc:title>
</cp:coreProperties>
</file>